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DBE79-0599-4A03-A765-31E0F27C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0EF4-0286-4792-BFBC-CF9EE96A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2704A-C94C-477E-8980-E10CFB0F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2CD84-E877-41AA-B499-371D7101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1903-ED1C-4E9D-AACB-7951EB8A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6298-E1E4-4276-B1F9-FFC055CC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6C68-A20D-41D0-A3E0-0B7B6117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C7C9-058C-4211-9A23-7EB45277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0059-3A96-4D99-9402-ACE823E3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6454-0A7A-457E-8668-0485B5B5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82EB-25E4-4079-BF38-AA1CCCAC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8D71E-2075-4319-87A2-9BE2F647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3DC5-6A63-4F78-8FDE-4B78BF37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73B0-E027-44B9-A33C-1EF4BE94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5266-A61C-42D7-BA17-D922A8ED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BDAE-1E44-4D02-8926-3B1B5846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8E55-5288-4C42-9565-F402BCB9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EC8F2-7EE1-48F4-BEED-7B576CFB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360B3-7E15-48E0-95CA-4BF98CEF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8793-E08B-4A1F-83AF-C7E3FC02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A5042-2F74-4508-B8F6-84D15A75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70D5E-ED83-4C4E-B65E-C3DB062D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EA19-CD46-4277-98C0-BDCC6E78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307D-6B49-4644-9526-71ED7EE9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7A4B-56EF-429F-9C2E-D6CBD87087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3044-77EF-40DB-8471-6AE631A5E4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ill There Was No Remed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ivided Kingd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rter 6, Lesson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ges 8-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 Kings 12:21-14:18; 2 Chron.11:1 – 12:1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udah and Israel Compar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hoboam is forbidden to stop the rebell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hoboam fortifies Juda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is has a chance of pleasing G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eroboam Sets Up A False Relig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ligion of Conveni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ethel –Shri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an – Shri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is has no chance of pleasing G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udah and Israel Compar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hoboam – 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Faithful In Israel Flee to Judah – 2 Chron.11:13-14, 16-1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hoboam’s Family – Well Provided For – 2 Chron.11:18-2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eroboam – 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Prophecy of the Man of God -1 Kgs.13:1-3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oom is coming for this false relig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Jeroboam tries to bribe the man of Go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udah and Israel Compar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hoboam – 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udah turns to Idolat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hishak, Pharaoh of Egypt, invades Juda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divine wake-up-ca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eroboam – 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 continues his idolat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death of Jeroboam’s 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22:09:34Z</dcterms:created>
  <dc:creator> Tab Vines</dc:creator>
  <dc:description/>
  <dc:language>en-US</dc:language>
  <cp:lastModifiedBy>Frank D Vines</cp:lastModifiedBy>
  <dcterms:modified xsi:type="dcterms:W3CDTF">2005-07-04T03:36:25Z</dcterms:modified>
  <cp:revision>3</cp:revision>
  <dc:subject/>
  <dc:title>Till There Was No Remedy</dc:title>
</cp:coreProperties>
</file>